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F7E-DBBC-4146-BE3F-FDAF278D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765-1618-4DAA-81F1-9713B418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7E3-0D8D-43A7-9AA5-2B27C007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435-7AEC-4DC1-94D2-C0D5D8F1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F9A-9825-434A-AEA4-82235550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2B9-8DA1-404F-A006-96126D52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A80-EB80-492A-9A21-1147E227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746-9230-442D-96AB-B6D1EA3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5F6-0821-4D78-82EF-38167C27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068-6C8A-4EB8-8868-61DE43F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184-1868-42C4-808B-9D901EF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07B-ACAF-4552-8800-890CFFB0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cce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2A28-80B0-4557-83D3-ED2AAE5E475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c842d6"/>
                </a:solidFill>
                <a:latin typeface="Lucida Handwriting"/>
              </a:rPr>
              <a:t>Le farfalle baller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4941360"/>
            <a:ext cx="7920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8dd21"/>
                </a:solidFill>
                <a:latin typeface="Lucida Handwriting"/>
              </a:rPr>
              <a:t>Vi abbiamo così spiegato cosa succede dentro la pentola quando la pasta ba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cienziato"/>
          <p:cNvPicPr/>
          <p:nvPr/>
        </p:nvPicPr>
        <p:blipFill>
          <a:blip r:embed="rId1"/>
          <a:stretch/>
        </p:blipFill>
        <p:spPr>
          <a:xfrm>
            <a:off x="2627280" y="404640"/>
            <a:ext cx="4402080" cy="446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6fa44"/>
                </a:solidFill>
                <a:latin typeface="Lucida Handwriting"/>
              </a:rPr>
              <a:t>OTTIMO LAVORO SCIENZIAT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instein"/>
          <p:cNvPicPr/>
          <p:nvPr/>
        </p:nvPicPr>
        <p:blipFill>
          <a:blip r:embed="rId1"/>
          <a:stretch/>
        </p:blipFill>
        <p:spPr>
          <a:xfrm>
            <a:off x="2771640" y="1628640"/>
            <a:ext cx="346572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30b3d"/>
                </a:solidFill>
                <a:latin typeface="Lucida Handwriting"/>
              </a:rPr>
              <a:t>Avete mai visto vostra mamma cuocere la pas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mma"/>
          <p:cNvPicPr/>
          <p:nvPr/>
        </p:nvPicPr>
        <p:blipFill>
          <a:blip r:embed="rId1"/>
          <a:stretch/>
        </p:blipFill>
        <p:spPr>
          <a:xfrm>
            <a:off x="3084480" y="1628640"/>
            <a:ext cx="3333960" cy="4981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ucida Handwriting"/>
              </a:rPr>
              <a:t>Avete mai notato che mentre l’acqua si scalda la pasta comincia a ballare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asta"/>
          <p:cNvPicPr/>
          <p:nvPr/>
        </p:nvPicPr>
        <p:blipFill>
          <a:blip r:embed="rId1"/>
          <a:stretch/>
        </p:blipFill>
        <p:spPr>
          <a:xfrm>
            <a:off x="2050920" y="2492280"/>
            <a:ext cx="5183280" cy="3481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87640" y="1052280"/>
            <a:ext cx="338472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cc"/>
                </a:solidFill>
                <a:latin typeface="Lucida Handwriting"/>
              </a:rPr>
              <a:t>Vi siete mai chiesti il perché?? O.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omer dubbioso"/>
          <p:cNvPicPr/>
          <p:nvPr/>
        </p:nvPicPr>
        <p:blipFill>
          <a:blip r:embed="rId1"/>
          <a:stretch/>
        </p:blipFill>
        <p:spPr>
          <a:xfrm>
            <a:off x="6300720" y="3068640"/>
            <a:ext cx="2656080" cy="262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scimmia dubbiosa"/>
          <p:cNvPicPr/>
          <p:nvPr/>
        </p:nvPicPr>
        <p:blipFill>
          <a:blip r:embed="rId2"/>
          <a:stretch/>
        </p:blipFill>
        <p:spPr>
          <a:xfrm>
            <a:off x="0" y="2997360"/>
            <a:ext cx="3276720" cy="2616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Lucida Handwriting"/>
              </a:rPr>
              <a:t>Eccovi il motiv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dea1"/>
          <p:cNvPicPr/>
          <p:nvPr/>
        </p:nvPicPr>
        <p:blipFill>
          <a:blip r:embed="rId1"/>
          <a:stretch/>
        </p:blipFill>
        <p:spPr>
          <a:xfrm rot="20925000">
            <a:off x="826560" y="1916280"/>
            <a:ext cx="2689560" cy="396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grande mago!"/>
          <p:cNvPicPr/>
          <p:nvPr/>
        </p:nvPicPr>
        <p:blipFill>
          <a:blip r:embed="rId2"/>
          <a:stretch/>
        </p:blipFill>
        <p:spPr>
          <a:xfrm rot="583800">
            <a:off x="4554000" y="2184120"/>
            <a:ext cx="419904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6fa44"/>
                </a:solidFill>
                <a:latin typeface="Lucida Handwriting"/>
              </a:rPr>
              <a:t>All’inizio l’acqua nella pentola è tutta alla stessa temperatura ma, quando si accende il fuoco, la parte che si trova più in basso si riscal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99640" y="4292280"/>
            <a:ext cx="75596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Handwriting"/>
              </a:rPr>
              <a:t>Dovete sapere che quando un liquido si scalda le particelle si allontanano rendendo il liquido più legg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articella lete giusta"/>
          <p:cNvPicPr/>
          <p:nvPr/>
        </p:nvPicPr>
        <p:blipFill>
          <a:blip r:embed="rId1"/>
          <a:stretch/>
        </p:blipFill>
        <p:spPr>
          <a:xfrm>
            <a:off x="1763640" y="692280"/>
            <a:ext cx="5410440" cy="3369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Handwriting"/>
              </a:rPr>
              <a:t>La parte sopra inizialmente è ancora fredda quindi è più pesante e tende a scend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Handwriting"/>
              </a:rPr>
              <a:t>Questo movimento si ripete di continuo e da origine ai MOTI CONVETTIV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oti convettivi"/>
          <p:cNvPicPr/>
          <p:nvPr/>
        </p:nvPicPr>
        <p:blipFill>
          <a:blip r:embed="rId1"/>
          <a:stretch/>
        </p:blipFill>
        <p:spPr>
          <a:xfrm>
            <a:off x="3203640" y="3860640"/>
            <a:ext cx="236376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cc"/>
                </a:solidFill>
                <a:latin typeface="Lucida Handwriting"/>
              </a:rPr>
              <a:t>La pasta inizia a ballare lasciandosi trascinare dalla corrente che crea un giroto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girotondo pasta"/>
          <p:cNvPicPr/>
          <p:nvPr/>
        </p:nvPicPr>
        <p:blipFill>
          <a:blip r:embed="rId1"/>
          <a:stretch/>
        </p:blipFill>
        <p:spPr>
          <a:xfrm>
            <a:off x="1908000" y="2492280"/>
            <a:ext cx="5194440" cy="3890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3:24:33Z</dcterms:created>
  <dc:creator>User</dc:creator>
  <dc:description/>
  <dc:language>en-US</dc:language>
  <cp:lastModifiedBy>Laura Polenta</cp:lastModifiedBy>
  <dcterms:modified xsi:type="dcterms:W3CDTF">2011-06-15T06:22:26Z</dcterms:modified>
  <cp:revision>8</cp:revision>
  <dc:subject/>
  <dc:title>I moti convettivi</dc:title>
</cp:coreProperties>
</file>